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701-B7A6-4855-8DB1-934A4BEA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987-EB2D-46E2-801F-144130E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FF8-C8A2-4FBF-BD5D-A7ACBE0E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E80-7240-417D-9381-D84BDAB6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BC9-399D-4555-800F-5A67F7D1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363-24EF-48C4-82E9-C2086641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402-A2DB-4C46-B56E-EBC9ED22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77A-F6C9-4DEC-A9C4-FD2FC3DA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1B6-C5BD-4E1F-98C7-8AE9D593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F31-43DD-4091-A87F-7371168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E0E-610F-4FBD-A43A-846EC02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405-9D78-4742-A5DD-58B0953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987A-AFBA-47B2-B019-5B44E1E67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pembert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ca-Col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43434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in Oj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525780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2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irls in a j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/4/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mberton"/>
          <p:cNvPicPr/>
          <p:nvPr/>
        </p:nvPicPr>
        <p:blipFill>
          <a:blip r:embed="rId1"/>
          <a:srcRect l="0" t="0" r="31171" b="0"/>
          <a:stretch/>
        </p:blipFill>
        <p:spPr>
          <a:xfrm>
            <a:off x="3505320" y="198108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Pemberton"/>
          <p:cNvPicPr/>
          <p:nvPr/>
        </p:nvPicPr>
        <p:blipFill>
          <a:blip r:embed="rId2"/>
          <a:srcRect l="64409" t="-3098" r="0" b="0"/>
          <a:stretch/>
        </p:blipFill>
        <p:spPr>
          <a:xfrm>
            <a:off x="1600200" y="914400"/>
            <a:ext cx="160020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3341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257800"/>
            <a:ext cx="7391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Coca-Cola, 9/29/10 John Pemberto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mber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-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ist John Pemberton created Coca-Cola in 18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ixed a version of the syrup in a brass kettle in his backyard that would later become Coca-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ained extracts of cocaine and of kob nuts a rich of caffeine, and sugar for sweet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bookkeeper Frank Robbinson came up with the name Coca-C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developed the script style that remains for the company 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ivil War Pemberton fought for the south, rising to the rank of lieutenant colon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oved to Atlanta after the war were he began selling patients medicines and operated his own the Pemberton Chemical 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ompany’s early years the Coca-Cola formula was altered sever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1905 it contained cocaine and kola 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 and kola nut was removed and was replaced with citric, acid and frui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3:59Z</dcterms:created>
  <dc:creator>install</dc:creator>
  <dc:description/>
  <dc:language>en-US</dc:language>
  <cp:lastModifiedBy>install</cp:lastModifiedBy>
  <dcterms:modified xsi:type="dcterms:W3CDTF">2010-10-14T17:35:54Z</dcterms:modified>
  <cp:revision>12</cp:revision>
  <dc:subject/>
  <dc:title>Slide 1</dc:title>
</cp:coreProperties>
</file>